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las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3D8-68B1-4E9C-A040-FF2C5E62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3B8-FC42-4E42-B279-8D6A8C5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01D-D9C0-491D-929D-F7FBB772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7DE-B805-4929-9055-E157D479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648-6346-4BC4-AFD6-C9295ED5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D7B-7F33-47EE-B943-7B00CE2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749-EFB0-434D-B376-5D079096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441-69EB-4BFB-88ED-24B1A05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04-902F-4093-B547-37C744F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7D7-C0C5-46FD-8B7B-85E0D2F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52F-F925-4665-9C09-D02EAC53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871-DED1-4644-9EBE-29C3D009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FA37-C306-4144-AE63-898E86C20298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8179c"/>
                </a:solidFill>
                <a:latin typeface="Comic Sans MS"/>
              </a:rPr>
              <a:t>Interpreting Stem-and-leaf Diagrams</a:t>
            </a:r>
            <a:endParaRPr b="0" lang="en-US" sz="36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52388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df9"/>
                </a:solidFill>
                <a:latin typeface="Comic Sans MS"/>
              </a:rPr>
              <a:t>The aim of this lesson is to be able to read, understand and extract data from a stem-and-leaf diagram</a:t>
            </a:r>
            <a:endParaRPr b="0" lang="en-US" sz="4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following is a stem-and-leaf diagram representing the pulse rates of 12 students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2057400"/>
            <a:ext cx="0" cy="160020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133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523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The stem            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514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276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905120"/>
            <a:ext cx="838080" cy="457200"/>
          </a:xfrm>
          <a:prstGeom prst="line">
            <a:avLst/>
          </a:prstGeom>
          <a:ln w="25560">
            <a:solidFill>
              <a:srgbClr val="a355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6  8  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1  2  2  6  7  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2  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6002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The leaves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09720" y="2057400"/>
            <a:ext cx="685800" cy="380880"/>
          </a:xfrm>
          <a:prstGeom prst="line">
            <a:avLst/>
          </a:prstGeom>
          <a:ln w="25560">
            <a:solidFill>
              <a:srgbClr val="00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09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n </a:t>
            </a: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= 1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724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The number of number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4114440"/>
            <a:ext cx="380880" cy="609480"/>
          </a:xfrm>
          <a:prstGeom prst="line">
            <a:avLst/>
          </a:prstGeom>
          <a:ln w="25560">
            <a:solidFill>
              <a:srgbClr val="412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257800" y="3809880"/>
            <a:ext cx="1828800" cy="457200"/>
            <a:chOff x="5257800" y="3809880"/>
            <a:chExt cx="1828800" cy="457200"/>
          </a:xfrm>
        </p:grpSpPr>
        <p:sp>
          <p:nvSpPr>
            <p:cNvPr id="62" name=""/>
            <p:cNvSpPr/>
            <p:nvPr/>
          </p:nvSpPr>
          <p:spPr>
            <a:xfrm>
              <a:off x="5257800" y="3809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a355ab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360" y="3809880"/>
              <a:ext cx="0" cy="45720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360" y="3809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3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  = 62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257800" y="4648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What stem-and-leaf represent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400800" y="4190760"/>
            <a:ext cx="457200" cy="533160"/>
          </a:xfrm>
          <a:prstGeom prst="line">
            <a:avLst/>
          </a:prstGeom>
          <a:ln w="25560">
            <a:solidFill>
              <a:srgbClr val="fffd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867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lowest number is 56 and the highest number is 8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143000"/>
            <a:ext cx="769608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791320"/>
            <a:ext cx="769608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5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75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5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25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3352680"/>
            <a:ext cx="3733920" cy="3048120"/>
          </a:xfrm>
          <a:prstGeom prst="rect">
            <a:avLst/>
          </a:prstGeom>
          <a:solidFill>
            <a:srgbClr val="fffdf9"/>
          </a:solidFill>
          <a:ln w="7632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143000"/>
            <a:ext cx="0" cy="160020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219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6  8  9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1600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1  2  2  6  7  9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981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2  4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List all the number in the stem-and-leaf diagram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914400"/>
            <a:ext cx="769644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429000"/>
            <a:ext cx="3504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The numbers are: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56, 58, 5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61, 62, 62, 66, 67, 6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72, 74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8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581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df9"/>
                </a:solidFill>
                <a:latin typeface="Comic Sans MS"/>
              </a:rPr>
              <a:t>In total, there are 12 number, so n = 12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784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n </a:t>
            </a: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= 1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6991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The number of number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5880" y="5105160"/>
            <a:ext cx="381240" cy="609480"/>
          </a:xfrm>
          <a:prstGeom prst="line">
            <a:avLst/>
          </a:prstGeom>
          <a:ln w="25560">
            <a:solidFill>
              <a:srgbClr val="412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3352680"/>
            <a:ext cx="3733920" cy="3048120"/>
          </a:xfrm>
          <a:prstGeom prst="rect">
            <a:avLst/>
          </a:prstGeom>
          <a:noFill/>
          <a:ln w="76320">
            <a:solidFill>
              <a:srgbClr val="41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15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06:18Z</dcterms:modified>
  <cp:revision>4</cp:revision>
  <dc:subject/>
  <dc:title>PowerPoint Presentation</dc:title>
</cp:coreProperties>
</file>